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016-FC4E-433F-8251-349BD9D0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3B5-A17B-4797-9D6B-5FD264C0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3D9-FC1A-471A-B5A2-403A9E80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0BA-25D9-4B77-898F-15BD2177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05D-2E37-419A-978F-84A339B0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206-DCDB-4890-B5A5-96F2C07E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A39-357B-43DA-B9CF-37E2216C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C1D-B954-469A-ABCD-AA81D70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26E-AC04-4D50-9790-CDAE606B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279-A0BE-4EFC-B045-7DB4B8DB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B3C-7B6A-4B89-B7CF-83F402E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0E1-2054-49CE-88E3-4FB94F9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F6A3-6460-4406-A3BE-0F694080F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33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десь ведь как с дыркой от бублика. Скажем ли мы: "внутри нет ничего", или будем утверждать: "есть дырка", - все это сплошные абстракции, и вкус бублика от них не измени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ям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картово произвед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множеств — множество, элементами которого являются всевозможные упорядоченные пары элементов исходных двух множеств. Данное понятие употребляется не только в теории множеств, но также в алгебре, топологии и прочих разделах математики благодаря тому, что прямое произведение часто наследует структуры (алгебраические, топологические и т. д.), существующие на перемножаемых множ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йчас термин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ображ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чаще всего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трогое определение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это «закон», по которому каждому элемент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з некоторого множеств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тавится в соответствие единственный элемен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з множеств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етико-множественное определение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это кортеж множест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обладающий следующими свойств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екартово произвед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,y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',y'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,   x = x'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= y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означения отображения используются так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орму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отображ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жеств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ноже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бластью определ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ображ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бластью значен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ображ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ргументами функ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соответствующие элемент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начениями функц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тематик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ортеж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овательность конечного числа элементов. Многие математические объекты формально определяются как кортежи. Например, граф определяется как кортеж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набор вершин, 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подмнож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×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бозначающее рёб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шение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математическая структура, которая формально определяет свойства различных объектов и их взаимосвязи. Отношения обычно классифицируются по количеству связываемых объектов (арность) и собственным свойствам (симметричность, транзитивность и пр.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ое определ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-местным (n-арным) отношением, заданным на множества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зывается подмножество прямого произведения этих мн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понятие отношения определяется только для частного случа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…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тнош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огда факт принадлеж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ки этому отношению можно записать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ы и первичные 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ледует рассмотреть, какие первичные символы могут использоваться при записи  формул в алгебраической сис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то прежде всего числа, переменные, символы арифметических операций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+, -, *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умножить), /(разделить); символы логических операций: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если то)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тогда и только тогда, равнозначность, эквивалентность);  символы операций отношения: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; кванторы предикатов: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для всех)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существует); символы операций над множествами: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если то)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тогда и только тогда, равнозначность, эквивалентность) ; круглые скобки (, ) для определения последовательности выполнения операций;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меры записи и чт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означает, что область истинности предиката P(x) совпадает с областью значений переменн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«Его можно читать так: Для все значений x высказывани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рно»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сказывание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означает, что область истинности предиката P(x) непу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«Его можно читать так: Существует x при котором высказывани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рно»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мер записи высказывания с использованием предикат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[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вадратные скобки [ ] задают область опреде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десь приведена аксиома равенства двух множест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ксиома читается так: Множеств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вны, тогда и только тогда,  когда для все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области определения выполняется условие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надлежи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огда и только тогда,  когда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надлежи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ой пример. Определение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декартова произвед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 предика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ределение читается так: Декартово произведение множест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это множество (фигурные скобки) пар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таких, ч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надлежи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надлежи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льная (аксиоматическая) те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льная (аксиоматическая) теор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формальное исчисление — это понятие, разработанное в рамках формальной логики в качестве основы для формализации теории доказательства. Формальная теория — разновидность дедуктивной теории, где множество теорем выделяется из множества формул путем задания множества аксиом и правил 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альная теор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е множество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ов, образующ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фав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е множе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 в алфавит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ул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дмноже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сиом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ножеств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множестве формул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ми выв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жно сказать, что формальная теория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это четвер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&lt;A, F,B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лфавит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множество формул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множество аксиом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множество правил вывода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ножество символов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жет быть конечным или бесконечным. Обычно для образования символов используют конечное множество букв, к которым при необходимости приписываются в качестве индексов целые числа или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ножество форму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ычно задаётся индуктивным определением, например, с помощью формальной грамматики. Как правило, это множество бесконечно.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совокупности определяю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зы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игнатуру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формальной те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ножество аксио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жет быть конечным или бесконечным. Если множество аксиом бесконечно, то, как правило, оно задаётся с помощью конечного числ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хе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аксиом и правил порождения конкретных аксиом из схемы аксиом. Обычно аксиомы делятся на два вид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огические аксиом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(общие для целого класса формальных теорий) 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логическ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бственные аксиом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(определяющие специфику и содержание конкретной теор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ножество правил вывод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как правило, коне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матическая форму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 лат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уменьшительное от forma — образ, вид ) — всякая символическая запись (в виде выражения, равенства или неравенства), содержащая какую-либо информацию. По сути это символьные выражения либо точного, либо приближенного, либо неверного соответствия между математическими выраж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сио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р.-греч. ἀξίωμα — утверждение, положение)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ул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утверждение (факт), принимаемое истинным без доказательства, а также как «фундамент» для построения доказ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р.-греч. θεώρημα — «зрелище, вид; взгляд; представление, положение») — утверждение, для которого в рассматриваемой теории существу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казательст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иначе говоря, вывод). Частным случаем теорем являю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сио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е принимаются истинными без всяких доказательств или обоснований. Для аксиом доказательством служит пустой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атематических текстах теоремами обычно называют только достаточно важные утверждения. При этом требуемые доказательства обычно кем-либо найдены (исключение составляют в основном работы по логике, в которых изучается само понятие доказательства, а потому в некоторых случаях теоремами называют даже неопределённые утверждения). Менее важные утверждения-теоремы обычно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мм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едложениями, следствиями, условиями и прочими подобными терминами. Утверждения, о которых неизвестно, являются ли они теоремами, обычно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потез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349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р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фундаментальное физическое понятие, связанное с любыми объектами, существующими в природе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 которых можно судить благодаря ощущен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темати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аз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цепочка логических умозаключений, показывающая, что при каком-то наборе аксиом и правил вывода верно некоторое утверждение. В зависимости от контекста, может иметься в виду доказательство в рамках некоторой формальной системы (построенная по специальным правилам последовательность утверждений, записанная на формальном языке) или текст на естественном языке, по которому при желании можно восстановить формальное доказательство. Доказанные утверждения в математике называ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математических текстах обычно подразумевается, что доказательство кем-либо найдено; исключения из этого обычая в основном составляют работы по логике, в которых исследуется само понятие доказательства); если ни утверждение, ни его отрицание ещё не доказаны, то такое утверждение называ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ипотез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ногда в процессе доказательства теоремы выделяются доказательства менее сложных утверждений, называемы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емм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олковом словаре русского язы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С.И.Ожегова и Н.Ю.Шведовой дается такое определение: цели в нужном для нас смысл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2. Предмет стремления, то, что надо, желательно осуществ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о всемирной Интернет - энциклопедии (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икипедия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этот термин определяется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желаемый результат (предмет стремления); то, что хочется осуществи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ётко описанное желательное состояние, которого необходимо достигну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едвосхищаемый в сознании результат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Это определение практически совпадает с определением Ожег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ольшом бухгалтерском словаре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меется следующее определ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предмет стремления, то что надо осуществить; задача, которую необходимо реши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характеристика поведения системы, направленного на достижение определенного конечного состоя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бычно формальным выражением Ц. является целевая функция системы. Поведение системы часто удобно описывать в терминах Ц. и средств ее достиж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 выше сказанного можно сделать вывод, что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альную те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охарактеризовать, используя следующие главные компоне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новные символы (алфав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а образования слов (форму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ксио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а 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х символ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одержит символы для обозначения констант, операторов и т.д. Из этих символов, согласно правилам образования, строятся  утверждения (форму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вичные утверждения, истинность которых принимается без доказательства, называю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сиомами систе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оответствии с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илами вы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з истинных утверждений выводятся новые истинные утверждения – теор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требуется доказать истинность утверждения в той или иной формальной системе,  то соответствующее доказательство представляет собой такую последовательность утверждений,  в кото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ждое утверждение является аксиомой или его можно получить из одного или более предыдущих утверждений с помощью ряда правил выв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леднее утверждение является тем утверждением, которое надо доказ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сокращения длины доказательств используют следующие приё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) утверждения, ранее доказанные как теоремы, вставляются в доказательства без доказательства их исти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некоторые достаточно очевидные утверждения могут быть опущены (использованы неяв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Целевая функ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нкция, связывающая цель (оптимизируемую переменную) с управляемыми переменными в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е оптимиз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широком смысл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целевая функц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есть математическое выражение некоторого критерия качества одного объекта (решения, процесса и т.д.) в сравнении с другим. Цель – найти такие оценки, при которых целевая функция достигает миниму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ажно, что критерий всегда привносится извне, и только после этого ищется правило решения, которое минимизирует или максимизирует целевую функ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дачей оптимиз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математике называется задача о нахождении экстремума (минимума или максимума) вещественной функции в некоторой области. Как правило, рассматриваются области, принадлежащи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заданные набором равенств и неравен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ка задачи оптим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корректно поставить задачу оптимизации необходимо зад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пустимое множество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множеств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i=1,…,m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Целевую функцию — отображ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ритерий поис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max или mi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решить задач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чает од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Показать, чт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- Показать, что целевая функ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не огранич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- Най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f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)=min f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- Ес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*, то най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  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минимизируемая функция не является выпуклой, то часто ограничиваются поиском локальных минимумов и максимумов: точе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их, что всюду в некоторой их окрестнос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для минимума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для максим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допустимое множ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такая задача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ей безусловной оптим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 противном случае —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ей условной оптим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лезност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блага или товара — есть способность его удовлетворять какой-нибудь человеческой потреб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лезность блага тем выше, чем большему числу потребителей оно служит, чем настоятельнее и распространеннее эти потребности и чем лучше и полнее оно их удовлетворяет. Полезность является необходимым условием для того, чтобы какой-нибудь предмет приобрел меновую ценность. Некоторые экономисты пытались даже построить на Полезности теорию меновой ценности (см. Ценность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Ценност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 — значимость (польза, полезность) некоторого множества объектов для множества живых су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потребляется в нескольких смысла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«Ценность» — как название предмета, обозначающее признание его значимости. Разделяют «Материальные ценности» и «Духовные ценности». Известно понятие «Вечные ценности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«Ценность» — в экономике — используется как синоним понятию «потребительная стоимость», т.е. значимость, полезность предмета для потреби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ункция полез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— экономическая модель для определения предпочтений экономических субъектов. Основоположным условием концепта функции полезности является рациональное поведение потребителя, выражающееся в выборе из многочисленных альтернатив именно тех, которые выводят его на более высокий уровень полезности. В микроэкономике концепт функции полезности служит для объяснения поведения потребителей и производителей, в то время как в макроэкономике им пользуются для изображения предпочтений государственных интересов. Первая производная функции полезности по количеству определённого благ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называется предельной полезностью этого блага. Предельная полезность выражает, сколько дополнительной полезности приносит дополнительная единица благ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Предельная полезность, равная 0, означает достижение насыщ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6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рминология в алгебраических системах и модел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лгебраической систем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или просто системой)  называется объек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gt;, состоящий из трех множеств: непустого множеств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множеств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перац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…} и множеств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редика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…}, заданных на множеств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сителе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новным множеств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истем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отличие от других операций и предикатов, которые могут быть определены на множеств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опера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предикат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новны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лавными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начения главных нульарных операций системы 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лавным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ыделенными элементам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й сист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единяя множества 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истем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лагая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мы можем записать систем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олее кратко: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gt;. Очень часто множество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гнатур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лгебраическая систем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gt; называе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лгебр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дель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еляционной систем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-арн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отображение прямого произвед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кземпляров множества в само множество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о определению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рная операция — это просто выделенный элемент множества. Чаще всего рассматриваются унарные и бинарные операции, поскольку с ними легче работать. Но в связи с нуждами топологии, алгебры, комбинаторики постепенно накапливается техника работы с операциями большей а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отображение, ставящее в соответствие одному или нескольким элементам множества (аргументам) другой элемент (значение). Терми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правило применяется к арифметическим или логическим операциям, в отличие от термина оператор, который чаще применяется к некоторым отображением множества на себя, имеющим замечатель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24720" y="115920"/>
            <a:ext cx="161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ик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местный, и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рный) — это функция с множеством значений {0,1} (или «ложь» и «истина»), определённа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й декартовой степени множест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аким образом, каждый набор элементов множест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характеризует либо как «истинный», либо как «ложн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икат можно связать с математическим отношением: ес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ка принадлежит отношению, то предикат будет возвращать на ней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сказывани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утверждение, о котором совершенно точно можно сказать, истинно оно или ложно. Если использовать термин "высказывание", то можно дать другое определение термину "предикат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ие 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енными, определенными на заданных областях, которое становятся высказыванием при любой подстановке допустимых значений переменных, называет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-местным предик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икаты часто записывают в вид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03:47Z</dcterms:created>
  <dc:creator>User</dc:creator>
  <dc:description/>
  <dc:language>en-US</dc:language>
  <cp:lastModifiedBy>User</cp:lastModifiedBy>
  <dcterms:modified xsi:type="dcterms:W3CDTF">2009-10-19T15:26:17Z</dcterms:modified>
  <cp:revision>18</cp:revision>
  <dc:subject/>
  <dc:title>Слайд 1</dc:title>
</cp:coreProperties>
</file>